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574-0962-48B0-B235-76DCDDA0F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F53-72F2-4613-BAB3-4F73DE6ED1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74F-29B2-4A0E-A7CA-8F2F8953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CEB-8BE7-43D2-B36C-93BDB1F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9A1-256E-4527-A53E-7937ABA4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C65-98AB-4339-AFBB-795EB9F1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BF9-8C8D-4846-A4E5-A42A1E65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8432-6D6C-4FDD-A92F-2D6E7D1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878-B7DF-45EF-AF0B-D539D0DB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D17E-2A29-4CFE-9C1D-004541C8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6F81-8C15-473D-AA52-CECE5206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286F-6AB6-4E67-BC39-302F340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C99F-EA80-404A-AA49-C80AAD8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476-411D-4686-833E-943ED111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CEF6-1AA4-4B56-B3AF-868AD91D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E984-419E-4330-8715-6DAE7C3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339A-0F30-4EEF-B028-16A63BF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F3E3-CA04-4526-AD9E-66C0D9FE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018-9696-4185-B401-75B041B9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FA18-791D-44A6-AE78-2E2490A1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833E-3B7C-4DE3-AA89-B1BE1945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FB0B-760D-4CFF-9AB5-F43CEBA5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1771-8815-4B4B-B525-E71AAAC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8FB4-BF9F-4F45-B90F-E1C12A9B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078-5C9C-4F87-BACB-5ED901B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9E57-9D50-4687-9594-AFCC15D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C24E-91DF-4467-9E32-5552D478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863E-5154-4963-9930-DF879D4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A5E6-EA5C-47B4-AAB1-89663E97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010D-9C08-4F85-9C0C-4A3CC5E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7A13-4943-4921-BFFE-BF7E1C16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BC3B-BADF-491B-971D-2841D000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A629-0958-4747-91BD-3725CBDB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859E1-332D-49DF-A1AA-7DD0A757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8390-E882-43F4-975E-E6A679EF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3FB-D39F-4551-BDA5-24077F57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38DE-DC70-487C-A616-115632F8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31F4-C9B2-4575-B1E3-C221CD5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DFFB-7BEE-433B-B26B-9FA412C5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5B87-7769-445C-B79F-ADAF08D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E13E-F353-4EA5-8EA0-3046730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89E5-FD94-4FD1-A157-1F85AF9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36FD-DA82-49E7-ACD4-E26E0DC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60841-D5CD-4125-ADA1-0FAB0C18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84FF-8EEC-425B-B92B-49925A5B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EB6-28F8-40D7-AEF8-5E5E42E9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C2D-ACF6-4FD0-8564-DA2DD0AA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530-05F7-4FA9-A8C7-196CF6E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107-8F94-4647-A40C-3953B03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F89-E6DB-4D3B-8D2C-4F721EE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B86-DD4C-4D76-B7B6-274361AAE415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E882-B37B-4EF5-8499-60F58BF010C2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EC2-545B-48EC-BE61-72DE22D31EAA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A766-6D58-4D83-8B50-259D76ED7FD9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33280" y="140760"/>
            <a:ext cx="11217240" cy="15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Gothic"/>
              </a:rPr>
              <a:t>Аварийность и травматизм при эксплуатации подъемных сооружений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1480" y="1647720"/>
            <a:ext cx="112190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11" name="Рисунок 5" descr=""/>
          <p:cNvPicPr/>
          <p:nvPr/>
        </p:nvPicPr>
        <p:blipFill>
          <a:blip r:embed="rId2"/>
          <a:stretch/>
        </p:blipFill>
        <p:spPr>
          <a:xfrm>
            <a:off x="2641680" y="1647720"/>
            <a:ext cx="72579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72680" y="299880"/>
            <a:ext cx="1113012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рганизация (ее руководитель или лицо, его замещающее)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эксплуатирующая объект, на котором произошла авария, инциден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проводит следующие мероприятия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ередает оперативное сообщение об аварии, инциденте, оформленное по рекомендуемому образцу согласно приложению N 1 к настоящему Порядку, в течение 24 часов с момента возникновения авар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 несчастном случае (тяжелом, групповом, а также со смертельным исходом), происшедшем в результате аварии, инцидента, на поднадзорном Службе объекте, также передает оперативное сообщение (информацию) о несчастном случае оформленное по рекомендуемому образцу согласно приложению N 2 к настоящему Порядк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нимает меры по защите жизни и здоровья работников, окружающей среды, а также собственности организации и третьих лиц от воздействия негативных последствий аварии, инцидента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нимает меры по сохранению обстановки на месте аварии, инцидента до начала расследования их причин, за исключением случаев, когда необходимо вести работы по ликвидации последствий аварии, инцидента, и сохранению жизни и здоровья людей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72680" y="1025280"/>
            <a:ext cx="1131876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(в случае невозможности сохранения обстановки на месте аварии, инцидента, утраты взрывчатых материалов промышленного назначения обеспечивается ее документирование (в том числе фотографирование, видео- и аудиозапись))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существляет мероприятия по локализации и ликвидации последствий аварии, инцидента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нимает участие в техническом расследовании причин аварии, инцидента, принимает меры по устранению и профилактике причин, способствовавших возникновению аварии, инцидента, утрате взрывчатых материалов промышленного назначен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. 32 Расследование причин инцидентов на опасных производственных объектах, их учет и анализ регламентируются соответствующими документами, утвержденными организацией, эксплуатирующей поднадзорный Службе объект, и согласованными с территориальным органом Службы, осуществляющим надзор за данными объекта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09680" y="331560"/>
            <a:ext cx="1108368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Порядок организации работ по проведению технического расследова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причин аварии на опасном производственном объекте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1. Создание Комиссии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техническому расследованию причин аварии приказом территориального органа Службы или приказом Службы в срок не позднее 24 часов после получения оперативного сообщен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. Комиссия незамедлительно с даты подписания приказа приступает к работе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в течение 30 календарных дней составляет акт технического расследования причин аварии на опасных производственных объектах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оформленный по рекомендуемому образцу согласно приложению N 3 к настоящему Порядку, и готовит другие необходимые материалы. Акт технического расследования подписывается всеми членами комиссии по техническому расследованию. При отказе члена комиссии от подписания акта расследования к указанному документу прилагается его особое мнение с аргументированным обоснованием отказ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3. Организация, на объекте которой произошла авария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не позднее 3 рабочих дней после окончания расследования рассылает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по одному экземпляру материалов технического расследования в центральный аппарат или территориальный орган Службы, проводивший расследование, в соответствующие органы (организации), представители которых принимали участие в работе комиссии по техническому расследованию, в соответствующий орган прокуратуры, и в другие органы (организации), определенные председателем комисси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61680" y="851040"/>
            <a:ext cx="1109988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4. По результатам технического расследования причин аварии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в течение 3 рабочих дней руководитель организации издает приказ,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пределяющий меры по устранению причин и последствий аварии, по обеспечению безаварийной и стабильной работы опасного производственного объекта, а также по привлечению к дисциплинарной ответственности лиц, допустивших нарушения требований законодательства Российской Федерации в области промышленной безопасности (безопасности ГТС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5.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исьменная информация о выполнении мероприятий, предложенных комиссией, в течение 10 рабочих дней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сле окончания сроков выполнения каждого пункта мероприятий представляется руководителем организации в территориальный орган Службы и в организации, представители которых участвовали в проведении технического расследован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6.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Учет аварий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едется организацией, эксплуатирующей поднадзорный Службе объект, в специальном журнале учета аварий, происшедших на опасных производственных объектах по рекомендуемому образцу согласно приложению N 4 к настоящему Порядку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один раз в полугодие при наличии аварий информация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 авариях и их причинах представляется в территориальный орган Службы, на территории деятельности которого располагается эксплуатируемый объек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98320" y="1118880"/>
            <a:ext cx="112730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несчастного случая (тяжелого, группового, со смертельным исходом),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оисшедшего в результате аварии, установление причин несчастного случая осуществляется в соответствии с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Трудовым кодексом Российской Федерации (статьи 227-231)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Федеральным законом от 21 июля 1997 года N 116-ФЗ "О промышленной безопасности опасных производственных объектов"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оложением об особенностях расследования несчастных случаев на производстве в отдельных отраслях и организациях, утвержденным постановлением Министерства труда и социального развития Российской Федерации от 24 октября 2002 года N 73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(зарегистрировано Министерством юстиции Российской Федерации 5 декабря 2002 года, регистрационный N 3999; Бюллетень нормативных актов федеральных органов исполнительной власти, 2003, N 2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7400" y="182520"/>
            <a:ext cx="96631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Gothic"/>
              </a:rPr>
              <a:t>Нормативно-правовые акты, регламентирующие расследование аварий и инцидентов на опасных производственных объектах.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7400" y="1544400"/>
            <a:ext cx="109476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ФЕДЕРАЛЬНЫЙ ЗАКОН от 21.07.1997 № 116-ФЗ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«О промышленной безопасности опасных производственных объектов»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атья 1. Основные понятия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авария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разрушение сооружений и (или) технических устройств, применяемых на опасном производственном объекте, неконтролируемые взрыв и (или) выброс опасных веществ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(По ФНП ПС прежде всего авария это-падение отдельных частей ПС, а также возникновение в расчетных металлоконструкциях ПС разрушений (или остаточных деформаций сверх допустимых значений)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инцидент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отказ или повреждение технических устройств, применяемых на опасном производственном объекте, отклонение от установленного режима технологического процесса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20560" y="331920"/>
            <a:ext cx="11241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атья 9. Требования промышленной безопасности к эксплуата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опасного производственного объек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1. Организация, эксплуатирующая опасный производственный объект, обязана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блюдать положения настоящего Федерального закона, других федеральных законов, принимаемых в соответствии с ними нормативных правовых актов Президента Российской Федерации, нормативных правовых актов Правительства Российской Федерации, а также федеральных норм и правил в области промышленной безопасности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воевременно информировать в установленном порядке федеральный орган исполнительной власти в области промышленной безопасности, его территориальные органы, а также иные органы государственной власти, органы местного самоуправления и население об аварии на опасном производственном объект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существлять мероприятия по локализации и ликвидации последствий аварий на опасном производственном объекте, оказывать содействие государственным органам в расследовании причин аварии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5"/>
          <p:cNvSpPr/>
          <p:nvPr/>
        </p:nvSpPr>
        <p:spPr>
          <a:xfrm>
            <a:off x="525600" y="809640"/>
            <a:ext cx="1128240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нимать участие в техническом расследовании причин аварии на опасном производственном объекте, принимать меры по устранению указанных причин и профилактике подобных аварий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анализировать причины возникновения инцидента на опасном производственном объекте, принимать меры по устранению указанных причин и профилактике подобных инцидентов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инимать меры по защите жизни и здоровья работников в случае аварии на опасном производственном объект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ести учет аварий и инцидентов на опасном производственном объект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ставлять в федеральный орган исполнительной власти в области промышленной безопасности, или в его территориальный орган информацию о количестве аварий и инцидентов, причинах их возникновения и принятых мерах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457200" y="1474920"/>
            <a:ext cx="11177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2. Работники опасного производственного объекта обязаны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блюдать положения нормативных правовых актов, устанавливающих требования промышленной безопасности, а также правила ведения работ на опасном производственном объекте и порядок действий в случае аварии или инцидента на опасном производственном объекте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замедлительно ставить в известность своего непосредственного руководителя или в установленном порядке других должностных лиц об аварии или инциденте на опасном производственном объект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установленном порядке приостанавливать работу в случае аварии или инцидента на опасном производственном объекте; в установленном порядке участвовать в проведении работ по локализации аварии на опасном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изводственном объекте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14360" y="369720"/>
            <a:ext cx="1111104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Статья 12. Техническое расследование причин ава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1.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каждому факту возникновения аварии на опасном производственном объекте проводится техническое расследование ее причин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2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 Техническое расследование причин аварии проводится специальной комиссией, возглавляемой представителем федерального органа исполнительной власти в области промышленной безопасности или его территориального орган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состав указанной комиссии также включаются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ставители субъекта Российской Федерации и (или) органа местного самоуправления, на территории которых располагается опасный производственный объект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ставители организации, эксплуатирующей опасный производственный объект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ставители страховщика, с которым организация, эксплуатирующая опасный производственный объект, заключила договор обязательного страхования гражданской ответственности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ругие представители в соответствии с законодательством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50800" y="709560"/>
            <a:ext cx="11320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омиссия по техническому расследованию причин аварии 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может привлекать к расследованию экспертные организации, экспертов в области промышленной безопасности и специалист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в области изысканий, проектирования, научно-исследовательских и опытно-конструкторских работ, изготовления оборудования и в других областях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5.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Организация, эксплуатирующая опасный производственный объект, ее работники, организация, проводившая экспертизу промышленной безопасности,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обязаны представлять комиссии по техническому расследованию причин аварии всю информацию, необходимую указанной комиссии для осуществления своих полномочий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6.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Результаты проведения технического расследования причин аварии заносятся в акт, в котором указываются причины и обстоятельства аварии, размер причиненного вреда, допущенные нарушения требований промышленной безопасности, лица, допустившие эти нарушения, а также меры, которые приняты для локализации и ликвидации последствий аварии, и содержатся предложения по предупреждению подобных аварий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09320" y="473040"/>
            <a:ext cx="10783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7.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Материалы технического расследования причин ава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аправляются в федеральный орган исполнительной власти в области промышленной безопасности, или в его территориальный орган, членам комиссии по техническому расследованию причин аварии, а также в иные заинтересованные государственные орган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8. Порядок проведения технического расследования причин аварии и оформления акта технического расследования причин аварии устанавливается федеральным органом исполнительной власти в области промышленной безопасност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Часть 9. Финансирование расходов на техническое расследование причин аварии осуществляется организацией, эксплуатирующей опасный производственный объект, на котором произошла авар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71320" y="1103400"/>
            <a:ext cx="11031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соответствии с полномочиями, установленными вышеупомянутой  частью 8 статьи 12 Федерального закона, Ростехнадзор разработал и утвердил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риказом от 19 августа 2011 года N 480 Порядок проведения технического расследования причин аварий, инцидентов и случаев утраты взрывчатых материалов промышленного назначения на объектах, поднадзорных Федеральной службе по экологическому, технологическому и атомному надзор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рядок определяет процедуру проведения технического расследования причин аварий, инцидентов на поднадзорных объектах. Устанавливает обязательные требования для работников организаций, связанных в силу своих функциональных или должностных обязанностей с необходимостью установления обстоятельств и причин авар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17:28:32Z</dcterms:created>
  <dc:creator>Дмитрий Козлов</dc:creator>
  <dc:description/>
  <dc:language>en-US</dc:language>
  <cp:lastModifiedBy>Дмитрий Козлов</cp:lastModifiedBy>
  <dcterms:modified xsi:type="dcterms:W3CDTF">2016-11-22T21:25:17Z</dcterms:modified>
  <cp:revision>17</cp:revision>
  <dc:subject/>
  <dc:title>Аварийность и травматизм при эксплуатации подъемных сооружений</dc:title>
</cp:coreProperties>
</file>