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127875" cy="3686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7AB-31DA-48D3-96F4-A393CB6E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641808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5680" y="2130840"/>
            <a:ext cx="641808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AC5-8091-4F7E-A182-F8213A9E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464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80" y="213084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4640" y="213084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0E6-BE65-4CDF-8B2B-AD950469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5760" y="86040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95840" y="86040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5680" y="213084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25760" y="213084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95840" y="2130840"/>
            <a:ext cx="20664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9BC-7FBF-4234-BCD4-7E85FDD6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5680" y="860400"/>
            <a:ext cx="641808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0BB-4E12-41BA-87A7-4D92766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641808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E85-6F94-42E6-A0CB-A73CB4B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313200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4640" y="860400"/>
            <a:ext cx="313200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B94-3567-4B1B-BCB7-A5DEC088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CAC-88C5-48B7-9DE1-8F6573C6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5680" y="147240"/>
            <a:ext cx="6418080" cy="28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F67-6520-4A06-89FA-A9A53F1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4640" y="860400"/>
            <a:ext cx="313200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5680" y="213084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6F0-7020-4AEF-8F80-66620FD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313200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464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4640" y="213084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3A1-3605-4A2A-82CB-20160286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4640" y="860400"/>
            <a:ext cx="313200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5680" y="2130840"/>
            <a:ext cx="6418080" cy="1159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4BA-08C1-41DC-BE68-0DAE80A2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680" y="860400"/>
            <a:ext cx="641808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0000"/>
          </a:bodyPr>
          <a:p>
            <a:pPr marL="201240" indent="-201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35600" indent="-1670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32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938520" indent="-133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07080" indent="-133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07080" indent="-133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07080" indent="-13392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3355560"/>
            <a:ext cx="1665360" cy="25740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5040" y="3355560"/>
            <a:ext cx="2259000" cy="25740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8400" y="3355560"/>
            <a:ext cx="1665360" cy="25740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Autofit/>
          </a:bodyPr>
          <a:lstStyle>
            <a:lvl1pPr indent="0" algn="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fld id="{E712C577-2B46-44C8-941E-38C8166BCB5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5200"/>
            <a:ext cx="53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8000" cy="35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335400"/>
            <a:ext cx="7128000" cy="35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360" y="906480"/>
            <a:ext cx="500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Зарегистрирована 19 декабря 1991 год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редняя численность персонала –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человек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 том числе докторов наук –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андидатов наук –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инженеров –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экспертов по промышленной безопасности –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обственная офисная площадь – 640 кв.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иды деятельности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buClr>
                <a:srgbClr val="000000"/>
              </a:buClr>
              <a:buFont typeface="Wingdings" charset="2"/>
              <a:buChar char="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Экспертиза промышленной безопасности проектов, технических устройств, зданий и сооруже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buClr>
                <a:srgbClr val="000000"/>
              </a:buClr>
              <a:buFont typeface="Wingdings" charset="2"/>
              <a:buChar char="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ертификация оборудования, используемого на опасных производственных объект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buClr>
                <a:srgbClr val="000000"/>
              </a:buClr>
              <a:buFont typeface="Wingdings" charset="2"/>
              <a:buChar char="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дготовка специалистов по промышленной безопасности для сдачи экзаменов в комиссии УСЗ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just">
              <a:buClr>
                <a:srgbClr val="000000"/>
              </a:buClr>
              <a:buFont typeface="Wingdings" charset="2"/>
              <a:buChar char="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роектные работы и разработка эксплуатационных документ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00720" y="40320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48360" y="1338120"/>
            <a:ext cx="1857240" cy="20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6720" y="438120"/>
            <a:ext cx="34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О «Санкт-Петербургская техн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кспертная комп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81080" y="366840"/>
            <a:ext cx="17269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1760"/>
            <a:ext cx="6418080" cy="6145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680" y="860400"/>
            <a:ext cx="6418080" cy="24321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marL="22392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Экспертиза промышленной безопасно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раны и подъемники всех тип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анатные доро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Эскалатор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Здания и сооруж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Объекты котлонадз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Горные машин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Химическое оборуд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Газовое оборуд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Объекты транспортирования опасных веще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Разработка паспортов и руководств по эксплуатации подъемных сооруж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8000" cy="35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335400"/>
            <a:ext cx="71280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147240"/>
            <a:ext cx="6418080" cy="61596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680" y="582480"/>
            <a:ext cx="6418080" cy="28814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8000" cy="35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5400"/>
            <a:ext cx="7128000" cy="35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942840"/>
            <a:ext cx="2881080" cy="2340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техрегулирование 184-Ф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ие регла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 ТС №0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 ТС №00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т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кларация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5080" y="942840"/>
            <a:ext cx="2879640" cy="2521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остехнадзор 116-ФЗ в ред. 22-Ф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луат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мо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тил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авила безопасности опас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изводственных объектов,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торых используются подъем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ру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верки Ростехнадз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изводственный 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ертиза П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основание безопас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4360" y="222120"/>
            <a:ext cx="3960720" cy="54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ь за 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5080" y="7635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24360" y="7635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335400"/>
            <a:ext cx="7128000" cy="35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28000" cy="351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418080" cy="40320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360" y="222120"/>
            <a:ext cx="6840720" cy="3463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Документы к заявк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Руководство по эксплуат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Обоснование безопас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Протокол сертификационных испыта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Сертификаты на металл, крюки, канаты и комплектующ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Испытательная лабора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Орган по сертифик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единичное и пар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серийно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3640" y="9428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3640" y="763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03200"/>
            <a:ext cx="252072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тифик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дъ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03200"/>
            <a:ext cx="270036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кларация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ли цепные и кана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рузоподъемные присп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8000" cy="351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2480"/>
            <a:ext cx="6418080" cy="3589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ья 13. Экспертиза промышл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360" y="403200"/>
            <a:ext cx="6840720" cy="30607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/>
          </a:bodyPr>
          <a:p>
            <a:pPr marL="223920" indent="0">
              <a:spcBef>
                <a:spcPts val="400"/>
              </a:spcBef>
              <a:buNone/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Экспертизе промышленной безопасности подлеж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документация на консервацию, ликвидацию опасного производственного объект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документация на техническое перевооружение опасного производственного объекта в случае, если указанная документация не входит в состав проектной документации такого объекта, подлежащей экспертизе в соответствии с законодательством о градостроительной деятель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технические устройства, применяемые на опасном производственном объекте, в случаях, установленных статей 7 настоящего Федерального закон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здания и сооружения на опасном производственном объекте, предназначенные для осуществления технологических процессов, хранения сырья или продукции, перемещения людей и грузов, локализации и ликвидации последствий авар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декларация промышленной безопасности, разрабатываемая в составе документации на техническое перевооружение (в случае, если указанная документация не входит в состав проектной документации опасного производственного объекта, подлежащей экспертизе в соответствии с законодательством о градостроительной деятельности), консервацию, ликвидацию опасного производственного объекта, или вновь разрабатываемая декларация промышленной безопасност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Обоснование безопасности опасного производственного объекта, а также изменения, вносимые в обоснование безопасности опасного производственного объек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335400"/>
            <a:ext cx="71280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08:04:29Z</dcterms:created>
  <dc:creator>Егунов Кирилл</dc:creator>
  <dc:description/>
  <dc:language>en-US</dc:language>
  <cp:lastModifiedBy>Бардышев Олег</cp:lastModifiedBy>
  <dcterms:modified xsi:type="dcterms:W3CDTF">2016-11-22T06:35:17Z</dcterms:modified>
  <cp:revision>65</cp:revision>
  <dc:subject/>
  <dc:title>Слайд 1</dc:title>
</cp:coreProperties>
</file>