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2C58-EDF0-444F-AFB8-8F214357E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 44 случаев профессиональных заболевани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43сл.- хронических профессиональных заболе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труктура  хронических профзаболеваний в зависимости от воздействия факторов производственной среды  представлена следующими нозологическими формам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заболевания органов дыхания от воздействия промышленных аэрозолей (пневмокониоз, силикоз, бронхит) – 21 сл. (33,9%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заболевания опорно-двигательного аппарата от воздействия физических нагрузок и перенапряжения отдельных систем и органов (пояснично-крестцовые радикулопатии, шейно-плечевые  радикулопатии, остеоартрозы,  полиневропатии) –  32 сл.  (51,6%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заболевания от воздействия общей и локальной вибрации (вибрационная болезнь) – 5 сл.  (8,1%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заболевания от воздействия шума (нейросенсорная тугоухость) –  2 сл.  (3,2%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прочие (бронхиальная астма, аллергический ринит)– 2 сл. (3,2%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ых условиях вследствие снижения интенсивностей воздействия вредных производственных факторов, преобладания комбинированного, комплексного и сочетанного характера их действия, клиника профессиональных заболеваний претерпела существенные изменения. Сегодня значительно реже,  чем 15-20 лет назад встречаются выраженные, классические формы 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48B1-5D93-48D9-B09C-4E6F01B486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66360" y="4460400"/>
            <a:ext cx="53355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2011 год МУЗ ЛО и ГБУЗ ЛО «Центр профпатологии» в рамках периодических медосмотров всего осмотрено 34521чел., в т.ч. врачами ГУЗ «Центр профпатологии» проведена экспертиза профпригодности 8934 работающим с вредными, опасными условиями труда и производственными факторами по результатам проведенных периодических медосмотров. Охват периодическими медосмотрами по области по данным отчетов МУЗ  составил 90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езультатам медосмотров выявлено 37 чел. с подозрением на профессиональный характер заболевания (из них 15 чел ГБУЗ ЛО «Центр профпатологии» – 40,5%),  3704 работников с впервые выявленной общесоматической патологией (ГБУЗ – 1358 чел., ), 10131 работников направлено на дообследование и лечение (ГБУЗ - 5865 чел. -36,7%), 1108 работников рекомендовано перевести на другую работу по состоянию здоровья, 804 чел. - на дообследование в ГБУЗ ЛО  «Центр профпатологи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внимания было уделено Актуальности проблемы охраны здоровья работающего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последние 20 лет отмечается рост доли работников занятых во вредных и опасных условиях труда во всех видах эконом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данным Росстата в 2009г.  по РФ этот показатель составлял 40,7%, по Ленинградской области показатель выше среднероссийского и составляет 44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этом удельный вес работников предприятий негосударственной (частной) собственности  составляет 57%, государственной 31%, смешанной 1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ализ динамики возрастных коэффициентов смертности показал, что в трудоспособном возрасте от 16-и до 59 лет смертность за последние 20 лет выросла в 1,5-2,5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ечение последних 10и лет в стране ежегодно умирало от 600 до 740 тыс. человек рабочих возрастов. При этом 80% из них составляют муж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оятность умереть в интервале возраста от 15 до 60 лет в России  (по данным ВОЗ) показывает,  что 45% мужчин-россиян достигших возраста 15 лет не доживают до 60 лет. По этому показателю мы находимся среди таких стран как Сенегал, Конго, Нигерия. В подавляющем большинстве развитых стран вероятность умереть в этом возрастном диапазоне составляет менее 10%. Показатель по женщинам 16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3BA4-DCAE-4F3F-B835-F6F340F1F9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679-5ED5-403E-9B4E-AA23DA96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A01-7D20-4318-8076-F0308CD7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6CE-ED2B-4F4B-901F-1416F6FF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14D-E534-4606-8BD9-BFCCD3B4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334D-5319-4B02-AE1E-42380738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8494-0EC4-41C2-9941-776D5603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6AD9-2ABE-43D9-93A3-9106729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3CA0-0C53-4932-884F-0FE17BBB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FAC8-CC1A-4709-883F-7533503D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2B83-D9FD-4385-AD5E-B4E3C9F2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FA3A-6C80-42EB-B00F-10FE391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2C7-6B7C-42DF-AE8B-9BE3263F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6D7C-757C-4BC1-8C7C-EFB8A3B3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05CE-ABBF-49BB-AC39-C206FE29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F1D1-5E21-47E3-9D43-C9DB8D50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879E-D04D-4AEE-A7D5-FC6B0B38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B18B-0192-4BC6-9801-B5D6E435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B118-66BF-4BCB-AE3C-CB10D947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38B5-D6D2-4AE8-9D0B-12696037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A0CF-238A-465D-B205-7FFBC2BA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8C19-26ED-436A-AC9A-01FC38BC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20CD-2E40-4749-8133-82DDE0C1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F64-0A93-4A2A-995F-5EC4E70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DFD4-735C-4D43-8FE0-68AE87ED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136E-2A00-4799-9589-48C5943F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45A9-8AA3-40BD-8D11-B5CB1683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083B-4C1A-4DA6-846D-6BBC7B3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5E98-3926-469F-8643-2ED347FF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07A5-87F1-4F09-B5AA-6878648D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D6CA-A6D2-4D1E-99A4-923CBA47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6E98-C911-4555-B6AC-6F1EAE95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B270-0F55-4AA8-A756-2F7551BB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ED2F-EAA6-4E63-8663-D91225BB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1B6-448D-4D93-B32E-481A74AF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569AB-4FA7-4482-AF82-8BDCD289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5C82-57F9-4545-AB22-999BDB02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6EBDE-069B-454B-8B5C-71BEDEE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CB9D-94AB-464F-9BF7-1AD8A56E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3469-A300-4678-8FA6-9E748A4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1726-C404-40EC-B5F6-53277EA0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98FFA-90AC-4652-A764-1ACE12D4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AE867-C783-40D9-B2D9-C45B95D6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13CA-234E-4DD8-9F15-77B1438A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C3FB9-9D0D-4563-9CFF-669631CF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266-91F9-48AB-9D88-B637970F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18FA-674D-450D-8C20-0D11E6E0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83761-FADE-4494-9EE8-67F88CF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2CC1-53BA-4206-8E11-AEB1F1A0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21AE-41FB-48C6-B6D2-73941704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7F02-1FF3-456C-BE74-E992B36D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98BF-1863-4058-8640-C725284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E374C-06F5-401B-9CA6-5D3B359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669E-5625-489C-A41A-D5C8B5E2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26A0-4FF6-40F4-A6BE-2F458A56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2B02B-3254-4E6B-85E1-10460D9C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D09-D415-4D6C-A19F-A377715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F5F96-1458-4BA1-8EAA-E78E7A77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A7C53-C7F1-4C4B-BFE2-1083D33B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7A399-F8D8-44D2-9F1C-01FD6E52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F422-0142-44EF-ACC5-6B46FC94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2573-3E53-4F11-9C28-848CA2CB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977CB-27FC-4205-BD27-EA1E1AD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176D4-9023-4DA1-9B10-E1D94E43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BA23-6F83-4126-9EFC-4B841AE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0551F-5077-4D36-8FA4-80AC99B2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8415B-0990-4766-AC19-09F04396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5EF-4D0E-4ADF-8CC9-5D8326A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6D013-74C3-400F-875A-A4A93EB5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87B3C-B0FD-442E-AB42-798DC486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458E5-6E55-4740-A215-B6BA8744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A47-CCA3-411E-934D-812729E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6CC-F2FD-4962-915A-B1E4EBE1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правление Роспотребнадзора по Ленинградской област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BA67-965C-4DD2-A2BC-88E0685003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fcece7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cece7"/>
                </a:solidFill>
                <a:latin typeface="Times New Roman"/>
              </a:rPr>
              <a:t>Управление Роспотребнадзора по Ленинградской област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B028-460C-4D4C-887A-F52891EB59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правление Роспотребнадзора по Ленинградской област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B317-BB32-4498-9D04-DDF092B470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правление Роспотребнадзора по Ленинградской област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CBA2-37CD-4E17-A083-FD8A945A38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правление Роспотребнадзора по Ленинградской област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B22E-7BC1-4929-A30A-01A32745E8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правление Роспотребнадзора по Ленинградской област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F820-B6A2-4804-819A-71FF76B9ED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Lucida Sans Unicode"/>
              </a:rPr>
              <a:t>О состоянии медицинской профилактики профессиональной заболеваемости в организациях Ленинградской област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4970-A21D-4390-B022-98187B02F5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859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зким качеством проведения медицинских осмотров (профессиональные заболевания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ыявляются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-за серьезных недостатков как в работе медицинских учреждений, так и по вине работодателей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овершенной законодательной и нормативно-правовой базой профилактики профессиональной заболеваемости, в том числ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сутствием ответственности ЛПУ и работодателей за качество профилактики, в том числе – и за качество проведения осмот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3F48-0C86-4365-91C0-2A2DFBC694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858160" cy="17366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10" name="Object 4"/>
          <p:cNvGraphicFramePr/>
          <p:nvPr/>
        </p:nvGraphicFramePr>
        <p:xfrm>
          <a:off x="996840" y="2138400"/>
          <a:ext cx="8147160" cy="35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6840" y="2138400"/>
                    <a:ext cx="814716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Object 5" descr=""/>
          <p:cNvPicPr/>
          <p:nvPr/>
        </p:nvPicPr>
        <p:blipFill>
          <a:blip r:embed="rId4"/>
          <a:stretch/>
        </p:blipFill>
        <p:spPr>
          <a:xfrm>
            <a:off x="633240" y="1722600"/>
            <a:ext cx="820908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428760" y="6572160"/>
            <a:ext cx="819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Rectangle 3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9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5" name=""/>
          <p:cNvGraphicFramePr/>
          <p:nvPr/>
        </p:nvGraphicFramePr>
        <p:xfrm>
          <a:off x="684360" y="981000"/>
          <a:ext cx="8359560" cy="5043600"/>
        </p:xfrm>
        <a:graphic>
          <a:graphicData uri="http://schemas.openxmlformats.org/drawingml/2006/table">
            <a:tbl>
              <a:tblPr/>
              <a:tblGrid>
                <a:gridCol w="2435040"/>
                <a:gridCol w="1093680"/>
                <a:gridCol w="1079640"/>
                <a:gridCol w="1224000"/>
                <a:gridCol w="1152360"/>
                <a:gridCol w="1374840"/>
              </a:tblGrid>
              <a:tr h="1103400"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Фактически осмотрено (человек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хват ПМ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( %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уждается в диспансерном наблюден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( %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явлено впервые соматических заболевани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( %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уждается в обследовании в центре профпатологии         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0" rIns="0" tIns="18000" bIns="18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Ленинградская область - всего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722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7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5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0" rIns="0" tIns="18000" bIns="18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юджетный сектор здравоохранения Ленинградской области, в том числе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77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5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0" rIns="0" tIns="18000" bIns="18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БУЗ ЛО М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804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95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18000" bIns="18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БУЗ ЛО «Центр профпатологии»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77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60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8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,8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0" rIns="0" tIns="18000" bIns="18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дицинские организации  негосудар-ственной формы собствен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144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8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7640" bIns="176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95280" y="1999800"/>
            <a:ext cx="83534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оло 67%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ников проходят осмотры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егосударственном секторе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равоохранения с низкой выявляемостью профзаболевани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егосударственных медицинских организаций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тр профпатологии Ленинградской област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ы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экспертизы связи заболевания с профессией практически не направляются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33440" y="249120"/>
            <a:ext cx="8277120" cy="1195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755640" y="274680"/>
            <a:ext cx="7705800" cy="5529240"/>
          </a:xfrm>
          <a:prstGeom prst="rect">
            <a:avLst/>
          </a:prstGeom>
          <a:ln w="0">
            <a:noFill/>
          </a:ln>
        </p:spPr>
      </p:pic>
      <p:sp>
        <p:nvSpPr>
          <p:cNvPr id="319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3293-5269-4815-ADA2-D17C56DBC1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7488360" y="0"/>
            <a:ext cx="1655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900000" y="476280"/>
            <a:ext cx="74898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189000"/>
            <a:ext cx="86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труктурно-функциональная модель профпатологической службы в Ленинградской обла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171360" y="981000"/>
            <a:ext cx="8863920" cy="5877000"/>
            <a:chOff x="171360" y="981000"/>
            <a:chExt cx="8863920" cy="5877000"/>
          </a:xfrm>
        </p:grpSpPr>
        <p:sp>
          <p:nvSpPr>
            <p:cNvPr id="324" name="AutoShape 8"/>
            <p:cNvSpPr/>
            <p:nvPr/>
          </p:nvSpPr>
          <p:spPr>
            <a:xfrm>
              <a:off x="171360" y="981000"/>
              <a:ext cx="8791200" cy="58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9"/>
            <p:cNvGrpSpPr/>
            <p:nvPr/>
          </p:nvGrpSpPr>
          <p:grpSpPr>
            <a:xfrm>
              <a:off x="284760" y="981000"/>
              <a:ext cx="8750520" cy="5771520"/>
              <a:chOff x="284760" y="981000"/>
              <a:chExt cx="8750520" cy="5771520"/>
            </a:xfrm>
          </p:grpSpPr>
          <p:sp>
            <p:nvSpPr>
              <p:cNvPr id="326" name="AutoShape 10"/>
              <p:cNvSpPr/>
              <p:nvPr/>
            </p:nvSpPr>
            <p:spPr>
              <a:xfrm>
                <a:off x="3353040" y="981000"/>
                <a:ext cx="1931760" cy="62928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2060"/>
                    </a:solidFill>
                    <a:latin typeface="Times New Roman"/>
                  </a:rPr>
                  <a:t>Первичная профпатологическая помощь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AutoShape 11"/>
              <p:cNvSpPr/>
              <p:nvPr/>
            </p:nvSpPr>
            <p:spPr>
              <a:xfrm>
                <a:off x="398160" y="1925280"/>
                <a:ext cx="1590840" cy="1049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f1a"/>
                    </a:solidFill>
                    <a:latin typeface="Times New Roman"/>
                  </a:rPr>
                  <a:t>Предварительные осмотры поступающих на работу во вредные условия труда       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12"/>
              <p:cNvSpPr/>
              <p:nvPr/>
            </p:nvSpPr>
            <p:spPr>
              <a:xfrm>
                <a:off x="2443680" y="1925280"/>
                <a:ext cx="1591200" cy="1049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Периодические осмотры работающих с вредными профессиональными факторами                    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AutoShape 13"/>
              <p:cNvSpPr/>
              <p:nvPr/>
            </p:nvSpPr>
            <p:spPr>
              <a:xfrm>
                <a:off x="4262040" y="1925280"/>
                <a:ext cx="2045520" cy="1049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Профилактические осмотры работающих с вредными производственными факторами</a:t>
                </a: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4"/>
              <p:cNvSpPr/>
              <p:nvPr/>
            </p:nvSpPr>
            <p:spPr>
              <a:xfrm>
                <a:off x="6535440" y="1925280"/>
                <a:ext cx="1704600" cy="104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Диспансеризация групп риска и  больных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с профессиональными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заболеваниями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15"/>
              <p:cNvSpPr/>
              <p:nvPr/>
            </p:nvSpPr>
            <p:spPr>
              <a:xfrm>
                <a:off x="3693960" y="3499560"/>
                <a:ext cx="1931760" cy="58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2060"/>
                    </a:solidFill>
                    <a:latin typeface="Times New Roman"/>
                  </a:rPr>
                  <a:t>Специализированная профпатологическая помощь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16"/>
              <p:cNvSpPr/>
              <p:nvPr/>
            </p:nvSpPr>
            <p:spPr>
              <a:xfrm>
                <a:off x="284760" y="4444200"/>
                <a:ext cx="1704600" cy="94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Экспертиза связи заболевания с профессией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17"/>
              <p:cNvSpPr/>
              <p:nvPr/>
            </p:nvSpPr>
            <p:spPr>
              <a:xfrm>
                <a:off x="2784960" y="4548600"/>
                <a:ext cx="375048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(Центр профпатологии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18"/>
              <p:cNvSpPr/>
              <p:nvPr/>
            </p:nvSpPr>
            <p:spPr>
              <a:xfrm>
                <a:off x="6876000" y="4444200"/>
                <a:ext cx="2159280" cy="94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Контроль эффективности и качества профпатологической помощи и ПМО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19"/>
              <p:cNvSpPr/>
              <p:nvPr/>
            </p:nvSpPr>
            <p:spPr>
              <a:xfrm>
                <a:off x="966240" y="5598360"/>
                <a:ext cx="1704600" cy="62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Экспертиза профпригодности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20"/>
              <p:cNvSpPr/>
              <p:nvPr/>
            </p:nvSpPr>
            <p:spPr>
              <a:xfrm>
                <a:off x="3580200" y="5598360"/>
                <a:ext cx="1931760" cy="77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Динамическое наблюдение больных с профессиональными заболеваниями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21"/>
              <p:cNvSpPr/>
              <p:nvPr/>
            </p:nvSpPr>
            <p:spPr>
              <a:xfrm>
                <a:off x="6080400" y="5598360"/>
                <a:ext cx="1818360" cy="73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ечение и профилактика профессиональных заболеваний,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здание регистра ПЗ</a:t>
                </a:r>
                <a:endParaRPr b="1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22"/>
              <p:cNvSpPr/>
              <p:nvPr/>
            </p:nvSpPr>
            <p:spPr>
              <a:xfrm flipH="1">
                <a:off x="1307160" y="1190520"/>
                <a:ext cx="2045160" cy="73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23"/>
              <p:cNvSpPr/>
              <p:nvPr/>
            </p:nvSpPr>
            <p:spPr>
              <a:xfrm flipH="1">
                <a:off x="3807360" y="1610280"/>
                <a:ext cx="11340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24"/>
              <p:cNvSpPr/>
              <p:nvPr/>
            </p:nvSpPr>
            <p:spPr>
              <a:xfrm>
                <a:off x="4716720" y="1610280"/>
                <a:ext cx="11340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25"/>
              <p:cNvSpPr/>
              <p:nvPr/>
            </p:nvSpPr>
            <p:spPr>
              <a:xfrm>
                <a:off x="5285160" y="1190520"/>
                <a:ext cx="1818360" cy="73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26"/>
              <p:cNvSpPr/>
              <p:nvPr/>
            </p:nvSpPr>
            <p:spPr>
              <a:xfrm>
                <a:off x="1534680" y="2974680"/>
                <a:ext cx="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27"/>
              <p:cNvSpPr/>
              <p:nvPr/>
            </p:nvSpPr>
            <p:spPr>
              <a:xfrm>
                <a:off x="3466800" y="2974680"/>
                <a:ext cx="108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28"/>
              <p:cNvSpPr/>
              <p:nvPr/>
            </p:nvSpPr>
            <p:spPr>
              <a:xfrm>
                <a:off x="5853600" y="2974680"/>
                <a:ext cx="108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29"/>
              <p:cNvSpPr/>
              <p:nvPr/>
            </p:nvSpPr>
            <p:spPr>
              <a:xfrm>
                <a:off x="7785360" y="2974680"/>
                <a:ext cx="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30"/>
              <p:cNvSpPr/>
              <p:nvPr/>
            </p:nvSpPr>
            <p:spPr>
              <a:xfrm>
                <a:off x="1534680" y="3184560"/>
                <a:ext cx="625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31"/>
              <p:cNvSpPr/>
              <p:nvPr/>
            </p:nvSpPr>
            <p:spPr>
              <a:xfrm>
                <a:off x="4603320" y="3184560"/>
                <a:ext cx="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32"/>
              <p:cNvSpPr/>
              <p:nvPr/>
            </p:nvSpPr>
            <p:spPr>
              <a:xfrm>
                <a:off x="4603320" y="4024080"/>
                <a:ext cx="1080" cy="52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33"/>
              <p:cNvSpPr/>
              <p:nvPr/>
            </p:nvSpPr>
            <p:spPr>
              <a:xfrm flipH="1">
                <a:off x="1989000" y="4758840"/>
                <a:ext cx="79524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Line 34"/>
              <p:cNvSpPr/>
              <p:nvPr/>
            </p:nvSpPr>
            <p:spPr>
              <a:xfrm flipH="1">
                <a:off x="2103120" y="4968720"/>
                <a:ext cx="1136160" cy="62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35"/>
              <p:cNvSpPr/>
              <p:nvPr/>
            </p:nvSpPr>
            <p:spPr>
              <a:xfrm>
                <a:off x="4603320" y="4968720"/>
                <a:ext cx="1080" cy="62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36"/>
              <p:cNvSpPr/>
              <p:nvPr/>
            </p:nvSpPr>
            <p:spPr>
              <a:xfrm>
                <a:off x="6535440" y="4758840"/>
                <a:ext cx="34056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37"/>
              <p:cNvSpPr/>
              <p:nvPr/>
            </p:nvSpPr>
            <p:spPr>
              <a:xfrm>
                <a:off x="5512320" y="4968720"/>
                <a:ext cx="1136520" cy="62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38"/>
              <p:cNvSpPr/>
              <p:nvPr/>
            </p:nvSpPr>
            <p:spPr>
              <a:xfrm>
                <a:off x="1420920" y="6437880"/>
                <a:ext cx="6932520" cy="31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542880" y="334800"/>
            <a:ext cx="8204400" cy="10796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Эффективность ПМО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ru-RU" sz="2700" spc="-1" strike="noStrike">
                <a:solidFill>
                  <a:srgbClr val="002060"/>
                </a:solidFill>
                <a:latin typeface="Lucida Sans Unicode"/>
              </a:rPr>
              <a:t>реализация (достижение) целей ПМО, определенных приказом МЗСР РФ № 302н (прил.3, п.п.2,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Качество ПМО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ru-RU" sz="2700" spc="-1" strike="noStrike">
                <a:solidFill>
                  <a:srgbClr val="002060"/>
                </a:solidFill>
                <a:latin typeface="Lucida Sans Unicode"/>
              </a:rPr>
              <a:t>выполнение работодателями и медицинскими организациями в полном объеме своих обязанностей в соответствии с приказом МЗСР РФ № 302н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2E24-5C67-4D07-84FA-542C62C801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"/>
          <p:cNvSpPr/>
          <p:nvPr/>
        </p:nvSpPr>
        <p:spPr>
          <a:xfrm>
            <a:off x="1042920" y="679680"/>
            <a:ext cx="741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А если учесть, что медицинские организации из года в год могут меняться (какая предложит на аукционе меньшую цену, та и проводит осмотр!), то на какое динамическое наблюдение групп риска развития профессиональной патологии, какую медицинскую профилактику профессиональных заболеваний можно рассчитывать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396720" y="0"/>
            <a:ext cx="8498160" cy="6308640"/>
          </a:xfrm>
          <a:prstGeom prst="rect">
            <a:avLst/>
          </a:prstGeom>
          <a:ln w="0">
            <a:noFill/>
          </a:ln>
        </p:spPr>
      </p:pic>
      <p:sp>
        <p:nvSpPr>
          <p:cNvPr id="36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376A-590E-42FE-8199-FB6027D064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4"/>
          <p:cNvSpPr/>
          <p:nvPr/>
        </p:nvSpPr>
        <p:spPr>
          <a:xfrm>
            <a:off x="324000" y="1125360"/>
            <a:ext cx="842472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Lucida Sans Unicode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занятые на работах с вредными и (или) опасными факторами и условиями труда с разовым или многократным превышением ПДК (ПДУ) по действующему фактору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участники аварийных ситуаций или инцидентов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имеющие (имевшие) заключение о предварительном диагнозе профзаболевания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 со стойкими последствиями несчастных случаев на производстве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по решению врачебной комиссии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) с острыми и хроническими профзаболеваниями в начальных и выраженных форма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е реже 1 раза в год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378000" y="29520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МО в центре профпатологи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реже одного раза   в 5 лет проходят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66800" y="189000"/>
            <a:ext cx="83772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ая задача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боте по профилактике профессиональной заболеваемости заключ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 снижении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я профзаболеваемости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в повышении выявления ранних признаков профессиональных заболеваний в ходе предварительных и периодических медицинских осмотр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а обязательных медицинских осмот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свидетельствований) для работников обладае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ибольшим потенциалом профилактики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ессиональных так и общесоматически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леваний, определяющих профессионально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олет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844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ПРИ ФОРМИРОВАНИИ КОНТИНГЕНТОВ И СПИСКОВ ИСПОЛЬЗОВАТЬ ПРИЛОЖЕНИЯ № 1 И № 2 ПРИКАЗА МЗ и СР РФ № 302н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РОВОДИТЬ ПЕРИОДИЧЕСКИЕ МЕДИЦИНСКИЕ ОСМОТРЫ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ЦЕНТРЕ ПРОФПАТОЛОГИИ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ЕЖЕ 1 РАЗА В 5 ЛЕ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ОТВЕТСТВИИ С ХАРАКТЕРОМ ВРЕДНЫХ ПРОИЗВОДСТВЕННЫХ ФАКТОРО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. 37 прил. № 3 к Приказу № 302н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598E-CD65-492C-9C57-FFF38F59C2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176040" y="115920"/>
            <a:ext cx="879192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684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ПРИ ЗАКУПКЕ УСЛУГ ПО МЕДОСМОТРАМ  ИСПОЛЬЗОВАТЬ АДЕКВАТНЫЕ ФОРМЫ ЗАКУПКИ УСЛУГ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В ТЕХНИЧЕСКОЕ ЗАДАНИЕ НА ЗАКУПКУ ВКЛЮЧАТЬ ВСЕ ФУНКЦИОНАЛЬНЫЕ И ЛАБОРАТОРНЫЕ ИССЛЕДОВАНИЯ, ВСЕХ ВРАЧЕЙ-СПЕЦИАЛИСТ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ТЬ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Т ИСПОЛНИТЕЛЯ ПРЕДСТАВЛЕНИЯ ЗАКЛЮЧИТЕЛЬНОГО АКТА В ГБУЗ ЛО «ЦЕНТР ПРОФПАТОЛОГИИ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ТРОЛИРОВАТЬ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АЧЕСТВО ОСМОТ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55760" indent="-45576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3761-8144-45DD-8E86-017B2E2C66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176040" y="115920"/>
            <a:ext cx="8791920" cy="129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БЛАГОДАРЮ  ЗА  ВНИМАНИЕ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ОМИТЕТ ПО ЗДРАВООХРАНЕНИЮ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ЕНИНГРАДСКОЙ ОБЛАСТ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ОСУДАРСТВЕННОЕ  БЮДЖЕТНОЕ  УЧРЕЖДЕНИЕ ЗДРАВООХРАНЕНИЯ ЛЕНИНГРАДСКОЙ ОБЛАСТ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ЦЕНТР ПРОФЕССИОНАЛЬНОЙ ПАТОЛОГИИ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ГБУЗ ЛО «ЦЕНТР ПРОФПАТОЛОГИИ»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Lucida Sans Unicode"/>
              </a:rPr>
              <a:t>СПб, пр. Мечникова, 27 лит. О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Lucida Sans Unicode"/>
              </a:rPr>
              <a:t>т/ф.  544-25-20,  543-96-3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2060"/>
                </a:solidFill>
                <a:latin typeface="Lucida Sans Unicode"/>
              </a:rPr>
              <a:t>E</a:t>
            </a:r>
            <a:r>
              <a:rPr b="1" i="1" lang="ru-RU" sz="2700" spc="-1" strike="noStrike">
                <a:solidFill>
                  <a:srgbClr val="002060"/>
                </a:solidFill>
                <a:latin typeface="Lucida Sans Unicode"/>
              </a:rPr>
              <a:t>-</a:t>
            </a:r>
            <a:r>
              <a:rPr b="1" i="1" lang="en-US" sz="2700" spc="-1" strike="noStrike">
                <a:solidFill>
                  <a:srgbClr val="002060"/>
                </a:solidFill>
                <a:latin typeface="Lucida Sans Unicode"/>
              </a:rPr>
              <a:t>mail</a:t>
            </a:r>
            <a:r>
              <a:rPr b="1" i="1" lang="ru-RU" sz="2700" spc="-1" strike="noStrike">
                <a:solidFill>
                  <a:srgbClr val="002060"/>
                </a:solidFill>
                <a:latin typeface="Lucida Sans Unicode"/>
              </a:rPr>
              <a:t>:</a:t>
            </a:r>
            <a:r>
              <a:rPr b="1" i="1" lang="en-US" sz="2700" spc="-1" strike="noStrike">
                <a:solidFill>
                  <a:srgbClr val="002060"/>
                </a:solidFill>
                <a:latin typeface="Lucida Sans Unicode"/>
              </a:rPr>
              <a:t>oblprofcenter1@mail.r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2C64-C97D-4BD7-91DC-3DBC327748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1042920" y="11041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а задача состоит в  выявлении профзаболеваний на ранних стадиях, формировании и динамическом наблюдении групп риска развития профпатологии,  проведения комплекса реабилитационных мероприятий на ранних стадиях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4"/>
          <p:cNvSpPr/>
          <p:nvPr/>
        </p:nvSpPr>
        <p:spPr>
          <a:xfrm>
            <a:off x="324000" y="142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нденция ухудшения условий труда в Ленинградской области (по данным Росстат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0" y="1000080"/>
            <a:ext cx="914400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лиц, работающих в условиях, не отвечающих гигиеническим требованиям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охраняется устойчиво высоким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38,2%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- 2014 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42,6%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- 2015 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  <a:ea typeface="Arial"/>
              </a:rPr>
              <a:t>40,3 %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Arial"/>
              </a:rPr>
              <a:t>2016 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  <a:ea typeface="Arial"/>
              </a:rPr>
              <a:t>38,9 %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-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Arial"/>
              </a:rPr>
              <a:t>2017 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  <a:ea typeface="Arial"/>
              </a:rPr>
              <a:t>40,6 %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Arial"/>
              </a:rPr>
              <a:t> - 2018 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6" descr="C:\Users\Andrey\Desktop\1280838383_svarschik.jpg"/>
          <p:cNvPicPr/>
          <p:nvPr/>
        </p:nvPicPr>
        <p:blipFill>
          <a:blip r:embed="rId1"/>
          <a:stretch/>
        </p:blipFill>
        <p:spPr>
          <a:xfrm>
            <a:off x="571680" y="4714920"/>
            <a:ext cx="2315880" cy="1736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C:\Users\Andrey\Desktop\034.jpg"/>
          <p:cNvPicPr/>
          <p:nvPr/>
        </p:nvPicPr>
        <p:blipFill>
          <a:blip r:embed="rId2"/>
          <a:stretch/>
        </p:blipFill>
        <p:spPr>
          <a:xfrm>
            <a:off x="6300720" y="472428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C:\Users\Andrey\Desktop\2c6e1667967e.jpg"/>
          <p:cNvPicPr/>
          <p:nvPr/>
        </p:nvPicPr>
        <p:blipFill>
          <a:blip r:embed="rId3"/>
          <a:stretch/>
        </p:blipFill>
        <p:spPr>
          <a:xfrm>
            <a:off x="3071880" y="4714920"/>
            <a:ext cx="3084480" cy="1751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и по субъекту в 2014-2018 годах превышают  аналогичные показатели по Российской Федерации и  СЗФО.  На конец  2018 года занято во вредных условиях труда: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Ф – 37,9 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ЗФО – 38,1 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нинградская область – 40,6 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5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1481040"/>
            <a:ext cx="843588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ьшее количество работников подвергается неблагоприятному воздействию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яжести трудового процесса, шума, вибрации (общей, локальной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8 году доля работников, занятых на тяжелых работах, состави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,1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выросла за последние пять лет в 1,3 раза ( на 9883  чел.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словиях повышенных уровней шума  занято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,8 % работников, рост в 1,4 раза ( на 11864 чел.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словиях повышенных уровней вибрации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,0 % работников, рост в 1,95 раза ( на 4890чел.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9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7E1B-3EB6-4007-8992-7D6CFF6600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/>
          <p:cNvSpPr/>
          <p:nvPr/>
        </p:nvSpPr>
        <p:spPr>
          <a:xfrm>
            <a:off x="684360" y="549360"/>
            <a:ext cx="813564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ональная заболеваемост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яду с ухудшением условий труда, сохраняется многолетняя тенденция  к снижению уровня профессиональной заболеваемости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 230  человек в 1999 году до 26 человек  в 2018 год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ение уровня профессиональной заболеваемост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 коррелируется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состоянием условий труда работников, занятых во  вредных условиях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ая часть профессиональных заболеваний  (84,0 %) выявляетс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 активном обращении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тников за медицинской помощью, а не в ходе периодических медицинских осмотров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79280" y="40428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8 году доля впервые установленных профессиональных заболеваний при проведении ПМО составила </a:t>
            </a:r>
            <a:r>
              <a:rPr b="1" lang="ru-RU" sz="2600" spc="-1" strike="noStrike">
                <a:solidFill>
                  <a:srgbClr val="c00000"/>
                </a:solidFill>
                <a:latin typeface="Lucida Sans Unicode"/>
              </a:rPr>
              <a:t>16 %,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м обращении </a:t>
            </a:r>
            <a:r>
              <a:rPr b="1" lang="ru-RU" sz="2600" spc="-1" strike="noStrike">
                <a:solidFill>
                  <a:srgbClr val="c00000"/>
                </a:solidFill>
                <a:latin typeface="Lucida Sans Unicode"/>
              </a:rPr>
              <a:t>-  84 %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4017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Object 2" descr=""/>
          <p:cNvPicPr/>
          <p:nvPr/>
        </p:nvPicPr>
        <p:blipFill>
          <a:blip r:embed="rId2"/>
          <a:stretch/>
        </p:blipFill>
        <p:spPr>
          <a:xfrm>
            <a:off x="488880" y="2228760"/>
            <a:ext cx="838224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тистические данные учета и регистрации случаев профессиональных заболеваний и заключений о периодических медосмотрах не отражают истинного положения в состоянии здоровья работников, поскольку выявляемость профессиональной патологии остается неполной по многим причина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имо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нижение»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ня профессиональной заболеваемости объясняется рядом причин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ой профилактикой профессиональной заболеваемости (многие работодатели, особенно в среднем и малом бизнесе, медицинские осмотр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роводя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9E90-872A-4B8C-A7CC-6B1497B5CB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2:59:08Z</dcterms:created>
  <dc:creator>User</dc:creator>
  <dc:description/>
  <dc:language>en-US</dc:language>
  <cp:lastModifiedBy>User</cp:lastModifiedBy>
  <dcterms:modified xsi:type="dcterms:W3CDTF">2019-06-24T15:47:44Z</dcterms:modified>
  <cp:revision>1233</cp:revision>
  <dc:subject/>
  <dc:title>Слайд 1</dc:title>
</cp:coreProperties>
</file>