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99CB-BF42-4EFA-87D8-A6708AC4B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5B4A-6219-440F-8E41-D8154ED20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на многих территориях целевой показатель не достигнут и превышает среднеобластной уровень. Не имеют проектов зон санитарной охраны источники централизованного водоснабжения: в, Приозерском,, Волосовском районах – 100%; Кировском- 97,5%; Ломоносовском - 96%, Волховском – 94,1, Подпорожском- 96,3 Бокситогорском – 91,1%, Лужском – 87,9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B619-8F5C-4D00-8C21-C3425D31B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на многих территориях целевой показатель не достигнут и превышает среднеобластной уровень. Не имеют проектов зон санитарной охраны источники централизованного водоснабжения: в, Приозерском,, Волосовском районах – 100%; Кировском- 97,5%; Ломоносовском - 96%, Волховском – 94,1, Подпорожском- 96,3 Бокситогорском – 91,1%, Лужском – 87,9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EFE-53C9-4C56-8EEE-A9D4F854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839-C36C-4A34-BD5E-F9644133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389-114B-44DB-BEAE-E30CDB2D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419-4E00-4B85-A196-01009C4E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3B9-E439-4081-984A-2899628F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EA2-2D8D-42F4-B8CC-028524E6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996-DF4A-47E3-99CF-D098CB7D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5DF-2512-4008-BA13-AAB108E8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E85-1E01-47AE-9496-AA7A4D2C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EFE-E222-4689-99E5-549237AF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2AD-45D7-47CE-96F6-777F9926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7B1-E4D5-4354-B10F-2CB85A22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D22D-C646-43B1-B155-247F5BF35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которые вопросы  состояни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словий  труда в организациях сельского хозя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эмблема"/>
          <p:cNvPicPr/>
          <p:nvPr/>
        </p:nvPicPr>
        <p:blipFill>
          <a:blip r:embed="rId1"/>
          <a:stretch/>
        </p:blipFill>
        <p:spPr>
          <a:xfrm>
            <a:off x="0" y="0"/>
            <a:ext cx="852480" cy="934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ьник отдела санитарного надз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вления Роспотребнадзора по Ленингра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ясников Игорь Олег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404080" y="6583320"/>
            <a:ext cx="43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оспотребнадзора по Ле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санитарного законодательства при проведении КН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нарушениями санитарного законодательства, которые выявляются при проведения контрольно-надзорных мероприятий юридических лиц, являют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сутствие производственного контроля за условиями труда работник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проведение медицинских осмотр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соблюдение требований к состоянию зданий, стро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ложения по улучшению условий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Организация и проведение производственного контроля с применением лабораторно- инструментальных исследований на рабочих местах  в полном объеме действующих производственны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Модернизация технологического оборудования с целью увеличения степени механизации и автоматизации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воевременное прохождение работниками периодических профилактических медицинских осмотров, в том числе, прохождение их в  Областном Центре профпатолог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эмблема"/>
          <p:cNvPicPr/>
          <p:nvPr/>
        </p:nvPicPr>
        <p:blipFill>
          <a:blip r:embed="rId1"/>
          <a:stretch/>
        </p:blipFill>
        <p:spPr>
          <a:xfrm>
            <a:off x="0" y="0"/>
            <a:ext cx="852480" cy="934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693160" y="6583320"/>
            <a:ext cx="43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оспотребнадзора по Ле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849400" y="6453360"/>
            <a:ext cx="36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правление Роспотребнадзора по Ленинград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268360" y="299736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эмблема"/>
          <p:cNvPicPr/>
          <p:nvPr/>
        </p:nvPicPr>
        <p:blipFill>
          <a:blip r:embed="rId1"/>
          <a:stretch/>
        </p:blipFill>
        <p:spPr>
          <a:xfrm>
            <a:off x="0" y="0"/>
            <a:ext cx="852480" cy="934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18 году на надзоре в Управлении состояло 22083 объектов надзора, из них 187 предприятий сельского хозяйства, из которых 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е СЭБ относится 50 предприя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71680" y="392904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4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404080" y="6583320"/>
            <a:ext cx="43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оспотребнадзора по Ле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8"/>
          <p:cNvSpPr/>
          <p:nvPr/>
        </p:nvSpPr>
        <p:spPr>
          <a:xfrm>
            <a:off x="285840" y="2858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9" descr="эмблема"/>
          <p:cNvPicPr/>
          <p:nvPr/>
        </p:nvPicPr>
        <p:blipFill>
          <a:blip r:embed="rId1"/>
          <a:stretch/>
        </p:blipFill>
        <p:spPr>
          <a:xfrm>
            <a:off x="0" y="0"/>
            <a:ext cx="852480" cy="934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0"/>
          <p:cNvSpPr/>
          <p:nvPr/>
        </p:nvSpPr>
        <p:spPr>
          <a:xfrm>
            <a:off x="395280" y="6567480"/>
            <a:ext cx="8229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оспотребнадзора по Ле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1"/>
          <p:cNvSpPr/>
          <p:nvPr/>
        </p:nvSpPr>
        <p:spPr>
          <a:xfrm>
            <a:off x="1187280" y="115920"/>
            <a:ext cx="767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7760" indent="-214776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амика установленных случаев  профессиональных заболеваний на предприятиях сельского хозяйства (случа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Диаграмма 14"/>
          <p:cNvGraphicFramePr/>
          <p:nvPr/>
        </p:nvGraphicFramePr>
        <p:xfrm>
          <a:off x="1336680" y="1368360"/>
          <a:ext cx="7572240" cy="4857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Диаграмма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6680" y="1368360"/>
                    <a:ext cx="75722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08"/>
          <p:cNvSpPr/>
          <p:nvPr/>
        </p:nvSpPr>
        <p:spPr>
          <a:xfrm>
            <a:off x="468360" y="2602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9" descr="эмблема"/>
          <p:cNvPicPr/>
          <p:nvPr/>
        </p:nvPicPr>
        <p:blipFill>
          <a:blip r:embed="rId1"/>
          <a:stretch/>
        </p:blipFill>
        <p:spPr>
          <a:xfrm>
            <a:off x="0" y="0"/>
            <a:ext cx="852480" cy="934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0"/>
          <p:cNvSpPr/>
          <p:nvPr/>
        </p:nvSpPr>
        <p:spPr>
          <a:xfrm>
            <a:off x="395280" y="6567480"/>
            <a:ext cx="8229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оспотребнадзора по Ле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1"/>
          <p:cNvSpPr/>
          <p:nvPr/>
        </p:nvSpPr>
        <p:spPr>
          <a:xfrm>
            <a:off x="1187280" y="115920"/>
            <a:ext cx="70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7760" indent="-214776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амика установленных профессиональных заболеваний у работников предприятий сельского хозяйства (челов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2"/>
          <p:cNvGraphicFramePr/>
          <p:nvPr/>
        </p:nvGraphicFramePr>
        <p:xfrm>
          <a:off x="684360" y="1268280"/>
          <a:ext cx="773424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268280"/>
                    <a:ext cx="7734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зраст и профессия, в которой регистрируются профзаболе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онические профессиональные заболевания регистрируются у женщин в возрасте от 45 до 59 лет со стажем работы с вредными производственными фактор, чаще от 15 лет и вы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8 год на предприятиях сельского хозяйства Ленинградской области число лиц с впервые установленным профессиональным заболеванием составило 10 человек (в 2017 году 18 человек), из них 9 (90 %) женщин (за 2017 год составило 14 человек, 77,7% женщ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эмблема"/>
          <p:cNvPicPr/>
          <p:nvPr/>
        </p:nvPicPr>
        <p:blipFill>
          <a:blip r:embed="rId1"/>
          <a:stretch/>
        </p:blipFill>
        <p:spPr>
          <a:xfrm>
            <a:off x="0" y="0"/>
            <a:ext cx="852480" cy="934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2548800" y="6583320"/>
            <a:ext cx="43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оспотребнадзора по Ле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826560" y="765000"/>
            <a:ext cx="8075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ее место в структуре профессиональных заболеваний у работников сельского хозяйства  занимают заболе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о-двигательного аппар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ично-крестцовые радикулопатии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периферической нервной системы (вегетосенсорная полиневропат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эмблема"/>
          <p:cNvPicPr/>
          <p:nvPr/>
        </p:nvPicPr>
        <p:blipFill>
          <a:blip r:embed="rId1"/>
          <a:stretch/>
        </p:blipFill>
        <p:spPr>
          <a:xfrm>
            <a:off x="0" y="0"/>
            <a:ext cx="852480" cy="93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2700360" y="6491160"/>
            <a:ext cx="445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оспотребнадзора по Ле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чины возникновения профессиональных заболеваний работников сельского 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428480"/>
            <a:ext cx="7931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ми возникновения профессиональных заболеваний явля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ство технологических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совершенство рабочих ме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руктивные недостатки машин и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нос тяжест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процент изношенности производственного оборудования, сельскохозяйственной техн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эмблема"/>
          <p:cNvPicPr/>
          <p:nvPr/>
        </p:nvPicPr>
        <p:blipFill>
          <a:blip r:embed="rId1"/>
          <a:stretch/>
        </p:blipFill>
        <p:spPr>
          <a:xfrm>
            <a:off x="0" y="0"/>
            <a:ext cx="852480" cy="934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2477160" y="6583320"/>
            <a:ext cx="43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оспотребнадзора по Ле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смо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лиц подлежащих медицинским осмотрам в 2018 году – 7611 челове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лиц прошедших медицинские осмотры в 2018 году – 6821 человек (89,6 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% охвата ПМО в 2010 году по области – 96,2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но надзорные  мероприятия проведенные в 2018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68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2018 году проведено 32 контрольно надзорных мероприятия в отношении сельскохозяйственных предприятий, из них плановых – 15, внеплановых – 1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контрольно-надзорных мероприятий выявлены нарушения санитарного законодательства на 31 предприят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есено 78 постановлений, из них 39 постановлений в отношений юридических 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0:48:20Z</dcterms:created>
  <dc:creator>Malinovskaya</dc:creator>
  <dc:description/>
  <dc:language>en-US</dc:language>
  <cp:lastModifiedBy>Сигачев Иван Анатольевич</cp:lastModifiedBy>
  <dcterms:modified xsi:type="dcterms:W3CDTF">2019-06-24T14:40:43Z</dcterms:modified>
  <cp:revision>40</cp:revision>
  <dc:subject/>
  <dc:title>Слайд 1</dc:title>
</cp:coreProperties>
</file>